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mitsve_tentsl_64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F68-96CE-49D8-88E1-FC2CBEFA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684-6E5E-4FBB-9A1E-1952DF8A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585-8F25-4E5C-A484-BCE400D3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4AA-8FF1-4B08-9E61-4C19AFD2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B70-74C3-4648-B46C-15854862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780-5FDE-4993-8199-125599AB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D2C-731B-46D1-9C14-12EC83D3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6A4-C522-449B-96E6-8F373646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632-7BBE-4131-8402-42ED5CF5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371-456F-4303-85CE-DDD64153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FB9-0682-4EC2-97D0-18BA24AC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1A1-3F91-4B99-9EE2-7F7659E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D0DB-4503-40E6-A914-23B0E14D0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itsve_tentsl_64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11592000" cy="7269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40720" y="1197000"/>
            <a:ext cx="500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Marc Chag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5e751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The Fiddler"/>
          <p:cNvPicPr/>
          <p:nvPr/>
        </p:nvPicPr>
        <p:blipFill>
          <a:blip r:embed="rId1"/>
          <a:stretch/>
        </p:blipFill>
        <p:spPr>
          <a:xfrm>
            <a:off x="3432240" y="0"/>
            <a:ext cx="5711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1160" y="2092320"/>
            <a:ext cx="243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The Fid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1912-1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National Gall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of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Washing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The Birthday"/>
          <p:cNvPicPr/>
          <p:nvPr/>
        </p:nvPicPr>
        <p:blipFill>
          <a:blip r:embed="rId1"/>
          <a:stretch/>
        </p:blipFill>
        <p:spPr>
          <a:xfrm>
            <a:off x="571680" y="457200"/>
            <a:ext cx="8001000" cy="640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25960" y="41400"/>
            <a:ext cx="269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The Birthday, 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he Painter to the Moon"/>
          <p:cNvPicPr/>
          <p:nvPr/>
        </p:nvPicPr>
        <p:blipFill>
          <a:blip r:embed="rId1"/>
          <a:stretch/>
        </p:blipFill>
        <p:spPr>
          <a:xfrm>
            <a:off x="1714680" y="-74520"/>
            <a:ext cx="7429320" cy="700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6360" y="1752480"/>
            <a:ext cx="15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917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r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e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llec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The Praying Jew"/>
          <p:cNvPicPr/>
          <p:nvPr/>
        </p:nvPicPr>
        <p:blipFill>
          <a:blip r:embed="rId1"/>
          <a:stretch/>
        </p:blipFill>
        <p:spPr>
          <a:xfrm>
            <a:off x="3994200" y="0"/>
            <a:ext cx="51498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17560" y="2441520"/>
            <a:ext cx="253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aying Je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hic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Green Violinist"/>
          <p:cNvPicPr/>
          <p:nvPr/>
        </p:nvPicPr>
        <p:blipFill>
          <a:blip r:embed="rId1"/>
          <a:stretch/>
        </p:blipFill>
        <p:spPr>
          <a:xfrm>
            <a:off x="5423040" y="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8040" y="2076480"/>
            <a:ext cx="32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Green Violinis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923-24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The Solomon 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Guggenheim Museu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New Y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Lovers with Flowers"/>
          <p:cNvPicPr/>
          <p:nvPr/>
        </p:nvPicPr>
        <p:blipFill>
          <a:blip r:embed="rId1"/>
          <a:stretch/>
        </p:blipFill>
        <p:spPr>
          <a:xfrm>
            <a:off x="3182760" y="0"/>
            <a:ext cx="5961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3120" y="2092320"/>
            <a:ext cx="287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Lo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Flow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1927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The Israel Museu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Jerusalem</a:t>
            </a:r>
            <a:r>
              <a:rPr b="1" lang="he-IL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overs in the Lilacs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50480" y="2305080"/>
            <a:ext cx="2901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overs in the Lilac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93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ichard S. Zeis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llec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ew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olitude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72440" y="193680"/>
            <a:ext cx="70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Solitude, 1933, oil on canvas, The Tel-Aviv Muse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ouquet with Flying Lovers"/>
          <p:cNvPicPr/>
          <p:nvPr/>
        </p:nvPicPr>
        <p:blipFill>
          <a:blip r:embed="rId1"/>
          <a:stretch/>
        </p:blipFill>
        <p:spPr>
          <a:xfrm>
            <a:off x="4197240" y="0"/>
            <a:ext cx="4946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05920" y="1879560"/>
            <a:ext cx="201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Bouqu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Fly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Lov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1934-47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Tate Galle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Lond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he Three Candles"/>
          <p:cNvPicPr/>
          <p:nvPr/>
        </p:nvPicPr>
        <p:blipFill>
          <a:blip r:embed="rId1"/>
          <a:stretch/>
        </p:blipFill>
        <p:spPr>
          <a:xfrm>
            <a:off x="4129200" y="0"/>
            <a:ext cx="50148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7600" y="498600"/>
            <a:ext cx="28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The Three Candl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938-4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private coll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40" y="541008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55760" y="59436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hagall: Self-Portrait"/>
          <p:cNvPicPr/>
          <p:nvPr/>
        </p:nvPicPr>
        <p:blipFill>
          <a:blip r:embed="rId1"/>
          <a:stretch/>
        </p:blipFill>
        <p:spPr>
          <a:xfrm>
            <a:off x="3240" y="0"/>
            <a:ext cx="9140760" cy="1051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428320" y="-95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0280" y="6400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a50021"/>
                </a:solidFill>
                <a:latin typeface="Times New Roman"/>
              </a:rPr>
              <a:t>ס.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" y="-76320"/>
            <a:ext cx="80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Marc Chagall (1887-1985)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  <p:sndAc>
      <p:stSnd>
        <p:snd r:embed="rId2" name="mitsve_tentsl_64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ed5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Red Nude Sitting Up"/>
          <p:cNvPicPr/>
          <p:nvPr/>
        </p:nvPicPr>
        <p:blipFill>
          <a:blip r:embed="rId1"/>
          <a:stretch/>
        </p:blipFill>
        <p:spPr>
          <a:xfrm>
            <a:off x="3833640" y="0"/>
            <a:ext cx="5310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9600" y="2076480"/>
            <a:ext cx="259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tting U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908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ivate collec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ond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075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I and the Village"/>
          <p:cNvPicPr/>
          <p:nvPr/>
        </p:nvPicPr>
        <p:blipFill>
          <a:blip r:embed="rId1"/>
          <a:stretch/>
        </p:blipFill>
        <p:spPr>
          <a:xfrm>
            <a:off x="3697200" y="0"/>
            <a:ext cx="5446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9960" y="1870200"/>
            <a:ext cx="124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illag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91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an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Adam and Eve"/>
          <p:cNvPicPr/>
          <p:nvPr/>
        </p:nvPicPr>
        <p:blipFill>
          <a:blip r:embed="rId2"/>
          <a:stretch/>
        </p:blipFill>
        <p:spPr>
          <a:xfrm>
            <a:off x="4300560" y="0"/>
            <a:ext cx="4843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21120" y="2441520"/>
            <a:ext cx="217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d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Ev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1912, St. Lou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rt Muse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The Cattle Dealer"/>
          <p:cNvPicPr/>
          <p:nvPr/>
        </p:nvPicPr>
        <p:blipFill>
          <a:blip r:embed="rId1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5120" y="0"/>
            <a:ext cx="68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The Cattle Dealer, 1912, 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Öffentliche Kunstsammlung, Kunstmuseum, Ba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The Spoonful of Milk"/>
          <p:cNvPicPr/>
          <p:nvPr/>
        </p:nvPicPr>
        <p:blipFill>
          <a:blip r:embed="rId1"/>
          <a:stretch/>
        </p:blipFill>
        <p:spPr>
          <a:xfrm>
            <a:off x="3666960" y="0"/>
            <a:ext cx="54770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80" y="3216240"/>
            <a:ext cx="38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The Spoonful of Milk, 19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The Pinch of Snuff"/>
          <p:cNvPicPr/>
          <p:nvPr/>
        </p:nvPicPr>
        <p:blipFill>
          <a:blip r:embed="rId2"/>
          <a:stretch/>
        </p:blipFill>
        <p:spPr>
          <a:xfrm>
            <a:off x="4402080" y="0"/>
            <a:ext cx="4741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920" y="2092320"/>
            <a:ext cx="149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Pin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nuf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91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pr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col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0000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Jew at Prayer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1560" y="3139920"/>
            <a:ext cx="32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Jew at Prayer, 1912-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21:32:21Z</dcterms:created>
  <dc:creator>soli</dc:creator>
  <dc:description/>
  <dc:language>en-US</dc:language>
  <cp:lastModifiedBy>WinuE</cp:lastModifiedBy>
  <dcterms:modified xsi:type="dcterms:W3CDTF">2009-04-30T07:59:37Z</dcterms:modified>
  <cp:revision>22</cp:revision>
  <dc:subject/>
  <dc:title>מצגת של PowerPoint</dc:title>
</cp:coreProperties>
</file>